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8E6B-9C59-4BB8-B079-BD679BDFF50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A00B-14D1-4E63-974E-DAFDC0D03BC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6660-F2F7-4215-9F10-420E160AEA5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34A-64FD-4A15-BF92-3DB723F3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178-91F2-4FF3-AF7C-E77AD55A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6A3-8FF0-4FA0-9161-6B92CD06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9C3-71DE-42C4-B3DF-5122301A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FD2-66AB-49FC-ABEC-0E24F787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92D-D4BE-480B-814F-C0912B6E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CDF-3DDA-48FF-806A-53D09C98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908-13E5-4BC8-A05E-C7892143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693-0A52-42BD-BC9B-7221E0F9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0FE-8D97-43C1-9B91-AC3AD904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1AE-9881-4C00-8658-EAE668EA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1C9-531E-4CC6-8460-D4B8DCC7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A3DD-BA04-41AB-AEDB-98032FC3FFCD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’occupazione nei  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326880" y="28440"/>
            <a:ext cx="76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. Proposte metodologiche per la programmazione delle politiche e buone prati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sellaDiTesto 1"/>
          <p:cNvSpPr/>
          <p:nvPr/>
        </p:nvSpPr>
        <p:spPr>
          <a:xfrm>
            <a:off x="1187280" y="1844640"/>
            <a:ext cx="66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agricoltu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vestimenti in azienda agricola e silvic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iuto avviamento attività imprenditor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le aree rur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versificazione econom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per la popol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uppi operativi (ricerca e innovazi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di svil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ttangolo 2"/>
          <p:cNvSpPr/>
          <p:nvPr/>
        </p:nvSpPr>
        <p:spPr>
          <a:xfrm>
            <a:off x="250920" y="17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Calcolo dell’occupazione nei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ttangolo 1"/>
          <p:cNvSpPr/>
          <p:nvPr/>
        </p:nvSpPr>
        <p:spPr>
          <a:xfrm>
            <a:off x="1403280" y="11970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8) promuovere un’occupazione sostenibile e di qualità e sostenere la mobilità dei lavoratori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9) promuovere l’inclusione sociale e combattere la povertà e ogni discriminazione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ttangolo 1"/>
          <p:cNvSpPr/>
          <p:nvPr/>
        </p:nvSpPr>
        <p:spPr>
          <a:xfrm>
            <a:off x="1187280" y="473544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menti strutturanti definiti nel quadro di regolamentazione. Per contribuire al finanziamento della strategia Europa 2020, i fondi SIE concentrano il sostegno su un numero limitato di obiettivi tematici comu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050920" y="2133720"/>
            <a:ext cx="641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operarsi per l’inclusione soci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la riduzione della povertà e lo sviluppo economico nelle zone rurali, con particolare riguardo ai seguenti aspetti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) favorire la diversificazione, la creazione e lo sviluppo di piccole imprese nonché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ccup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) stimolare lo sviluppo locale nelle zone rur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) promuovere l’accessibilità, l’uso e la qualità delle tecnologie dell’informazione e della comunicazione (TIC) nelle zone rurali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316872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"/>
          <p:cNvSpPr/>
          <p:nvPr/>
        </p:nvSpPr>
        <p:spPr>
          <a:xfrm>
            <a:off x="5378760" y="1989000"/>
            <a:ext cx="33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rifica del raggiung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valori obiettivo a livello d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2"/>
          <a:stretch/>
        </p:blipFill>
        <p:spPr>
          <a:xfrm>
            <a:off x="1692360" y="860400"/>
            <a:ext cx="4895640" cy="50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2"/>
          <a:stretch/>
        </p:blipFill>
        <p:spPr>
          <a:xfrm>
            <a:off x="2124000" y="1004760"/>
            <a:ext cx="5112000" cy="48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Immagine 1" descr=""/>
          <p:cNvPicPr/>
          <p:nvPr/>
        </p:nvPicPr>
        <p:blipFill>
          <a:blip r:embed="rId2"/>
          <a:stretch/>
        </p:blipFill>
        <p:spPr>
          <a:xfrm>
            <a:off x="5230800" y="1268280"/>
            <a:ext cx="3887640" cy="424188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3"/>
          <a:stretch/>
        </p:blipFill>
        <p:spPr>
          <a:xfrm>
            <a:off x="1116000" y="1274760"/>
            <a:ext cx="39337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Maria Carmela Macri</cp:lastModifiedBy>
  <dcterms:modified xsi:type="dcterms:W3CDTF">2017-12-14T12:53:04Z</dcterms:modified>
  <cp:revision>337</cp:revision>
  <dc:subject/>
  <dc:title>Quali politiche e quali governances per i piccoli comuni</dc:title>
</cp:coreProperties>
</file>